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102-5223-46D8-9229-B2378622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9E19-D5AD-4ACC-9FD5-BBEC523F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3C9-C2DB-4F36-979D-039BC9F4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9CBA-64C6-4C02-BA77-A89A2019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F375-D48F-4B7E-856B-F3561D75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80D2-D1C4-4953-86CE-2405FDF9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42D3-D690-4977-B042-7B4976EE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B735-EE5F-498A-96B4-44B07650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153F-2A5C-4CC2-9C2E-3231CCA0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756A-7968-4A7B-926C-1443F8ED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271C-B130-44DE-976F-D2D8D8D8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A0F-6797-43A4-8A56-D7B7C753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16A3-1668-49DA-A3FF-3DD0F714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8A50-AE38-45BB-8B01-436CC335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13CE-FE89-48D1-AB24-56459BC5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858B-4D57-4BA2-9673-7BDE390B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9D92-3E45-4234-8AA0-CA08D5C9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E100B-F05C-487D-89DC-B481FCDA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2F7B8-CADC-47B9-9D91-FB6AAEC4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DC6E9-151F-42A5-9319-FD9396DD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7C07C-20C6-41C9-850F-0FB1D13C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B51C4-92E5-413B-9998-A692B225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06F-D3AE-4F20-98D8-5B3F4EF1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957ED-9160-45A0-8EAC-C08DFDCD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E8F2-AFAD-4331-84D3-19666059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2922C-EED0-4E32-8D20-47EFD59E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16201-F53C-4F5B-AAB4-9EC0E423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1F16-2709-4C0C-8D95-E27E1B33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8C6C4-49A2-46DE-ACC4-F827A787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F243F-02C5-4CCD-82AD-5479DA53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3CDD3-EDA7-4655-A51F-516A28EF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E0A95-1BE4-4D5A-A4F3-61B0580A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19FC3-62FD-43F0-8DD1-5FA239A5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5A25-94B0-4B19-BDDC-3A58F231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46A2A-CCFD-46F1-A0D2-3972D534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8ACEB-31EF-44EA-A9A7-153E5768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C0A8B-D683-4846-B615-00504391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D0507-9DAA-479B-A1F7-0D6E02D4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B904E-065A-48D1-8854-64219506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9105F-B165-4FCD-BA08-276E131C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D48C3-0DD8-429E-A236-9BA7777E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A5A22-4C0F-4480-9D3E-29CAD393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B48E5-6859-43CD-BA7B-AAFE535C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BA4D0-70D8-4115-8BDA-D04DA900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C36-7E3C-4122-B7A3-CDDC295D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F5572-5EAC-4E53-AF41-1732F4C4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7BDF8-5CA1-4F60-B34A-3728F4B3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33FBA-BF39-4B4B-8F9A-E55FCE39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FC7C0-A6EB-4C06-A53A-63A29FCA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B715C-933B-4ECB-A0CC-E502B1F7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BCF8B-BA80-4DCB-AD51-CE26F1C4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D22A4-45B6-4744-BA54-99D8810F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7C71B-38D4-4530-8399-A888AAD4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F03B5-97B0-4CF4-B255-82A44120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E0508-1BD2-4B88-BEE3-41BEA22A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9F7-DC9A-42EF-A91B-D201A0A4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0DF81-99E8-4114-820E-A0703901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30CC4-95F1-419E-9AFD-C2382354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60C77-817B-408A-B129-986A3C89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A8B0B-3C0C-49B2-BE74-C489592E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BDD81-7212-41F1-A2D5-F34B22C4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FD3F0-DC41-4ABF-93AE-71670F96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DD429-AB04-4409-A58F-1E357722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DBED8-5A3E-4E47-B7D4-A91713B9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6C458-3BA0-408B-926D-6D0E95F1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08917-76EB-40E1-BE2C-492A8547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841-7711-45AB-8603-397B6950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BC8EA-2671-4671-87F7-320F4533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C2F49-90F9-4EE5-B7F9-89EAFA50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FBE8F-FA2B-4D2A-883E-8939FF39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0D7D4-2C23-4DB0-AD02-917BF024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25623-1605-40AC-A1CA-533CBC89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DDD26-F4F0-4241-8F0B-75950EA5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31441-1859-4BD7-9E4D-81A8ADCB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359E8-5172-4980-9556-023245C0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1947C-FA16-4DBA-925B-8B7E01BA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256BD-7320-433F-AADB-690D1A50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DC7-A5BD-4483-A3D8-5FE7FCE2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FA033-F271-48B9-870E-A01733DB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4492E-CB01-406E-B4A7-09AA3040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E806A-4028-40A7-BB4F-6CC03BBF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B5F21-E753-46B2-8AE5-E87FEC11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37A2C-8B25-4274-9B8E-7207D9BE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AC76-7F23-490D-94AA-911DD464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2A9F-6E41-4334-A913-D90549CCEA95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8559-DD92-44A5-8A2D-3E2775AFAB13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D659-FACD-4986-ADD0-95A84B323CE7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15EB-31C2-466E-AF92-CB1F4443F55E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FF71-61C8-4D1A-B7E9-87E99C893938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1015-F4EF-451A-8E26-F1C23B49F431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20 Conector recto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26 Conector recto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30 Conector recto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8EBF-5A11-44E4-9277-59B560784CFB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Sin&#243;nimo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1 Título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Rounded MT Bold"/>
              </a:rPr>
              <a:t>Texto argumentativo (Mentefacto Conceptual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1eeff"/>
                </a:solidFill>
                <a:latin typeface="Consolas"/>
              </a:rPr>
              <a:t>Para recordar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El texto argumentativo es utilizado como </a:t>
            </a:r>
            <a:r>
              <a:rPr b="0" lang="es-ES" sz="28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sinónimo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 de "discurso argumentativo", y hace referencia tanto a la expresión corporal o escrita como a la teatral. El texto argumentativo tiene como objetivo "atacar" o en algunos casos defender una opinión mediante justificaciones o razones con el fin de persuadir o convencer al receptor. La finalidad del emisor puede ser probar o demostrar una idea o tesis, refutar la contraria, o bien persuadir o disuadir al receptor sobre determinados comportamientos, hechos o idea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665280" y="457200"/>
            <a:ext cx="796104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21:19:57Z</dcterms:created>
  <dc:creator>Wolf</dc:creator>
  <dc:description/>
  <dc:language>en-US</dc:language>
  <cp:lastModifiedBy>Wolf</cp:lastModifiedBy>
  <dcterms:modified xsi:type="dcterms:W3CDTF">2012-11-20T19:55:30Z</dcterms:modified>
  <cp:revision>5</cp:revision>
  <dc:subject/>
  <dc:title>Diapositiva 1</dc:title>
</cp:coreProperties>
</file>